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9E38D-01AD-4C6D-BAF7-88A9211B6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80D88-BC04-4725-80FC-036F07ABE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E6979-A249-4940-BFFB-F06304D46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D5A27-CDDE-4E69-B154-073C967E5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E100B-0C69-41A8-8B2B-258E8E04D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D340D-C9B8-473D-9D8D-11C8C1A58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EBCB8-53C0-49D4-8773-9766B52B1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C6505-AA79-423D-A893-F02FC71EA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B185D-3616-4426-B310-540B29CB8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F4957-1816-4521-93AF-87F88B7A9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CBC14-C1AB-41B4-A7AF-F44499CC5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9317D-DDC0-4509-B090-B40DFFA28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65E64-2CF2-4558-ABED-876466EAF2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Your Na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able of Cont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nim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ac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ict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nim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ac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ict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nim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ac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ict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la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ac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ict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la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ac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ict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la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ac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ict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ood We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8T15:41:38Z</dcterms:created>
  <dc:creator>user</dc:creator>
  <dc:description/>
  <dc:language>en-US</dc:language>
  <cp:lastModifiedBy>user</cp:lastModifiedBy>
  <dcterms:modified xsi:type="dcterms:W3CDTF">2011-03-18T15:47:17Z</dcterms:modified>
  <cp:revision>1</cp:revision>
  <dc:subject/>
  <dc:title>Title</dc:title>
</cp:coreProperties>
</file>